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9593-743F-4BC7-821C-D56ECF8B77D4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13DD-114C-42B9-A265-F5117BA23B34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7941-9FDF-42E2-959F-5D4EE0F86D8C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1466-00ED-4C11-A402-12CA3718B9E4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FDB5-B5DB-4033-A8B0-0B55DEEDAD63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4A53-C305-4ACD-95F3-9ECBE531DFA6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E935-C22E-4B0B-AF2E-AD82BC11CA6E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AE9E-B49E-4EE8-8D6A-F65E62150282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08F6-041D-4230-93EE-A00DE672BE54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79E6-1CAB-462F-AD30-DA9A11D57A50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D55E-C154-4FD8-9BDC-AB436FB1B95D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B472-3E7A-448C-AC71-9CA51CC0D6D9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2261-C218-4615-984B-5CF579412009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D19D-D66C-4AF0-8FD9-85EDDBBFCA3F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25C8-2D34-46E7-87E7-FF7CA64279E4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1B9B-C1C3-4503-842C-B5C4A3640401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802-BE83-4EB9-8F7F-4D1291CBAAD3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08C9-821B-4270-8012-BA87B4C6423C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1571-DD91-4B56-935D-25F2B52C3BA2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E4FE-F2AB-4683-8551-62A94BE0A12C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ED76-DA9D-40F3-B2AE-494D872CE248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4BA-B088-4158-A224-76C4DAFA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A8F-0414-40D2-A494-C76F2D9A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591-1E7A-4390-8A8C-B6D1B6B7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D94-49E1-477D-BB86-9355204B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4B5-16EF-47FA-A32D-126BBC95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62D-44D2-4079-9923-77D3851D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BB5-DE1A-497F-BA7E-0617E60E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DC8-83FE-434B-962F-29D8169E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920-9437-46C7-973A-03033436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5FA-5625-42BD-B97A-FCFB9C09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794-D3C3-441D-9BD6-87753809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022-129E-4343-BC73-3A210A63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9530-F827-47F8-826C-CBBF85A3572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: Devin Ouell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2916360" y="260280"/>
            <a:ext cx="36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ainism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25333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0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h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amb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vetamb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643280" y="1557360"/>
            <a:ext cx="2665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y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ary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adhyay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ni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lak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66"/>
            </a:gs>
            <a:gs pos="100000">
              <a:srgbClr val="ff33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havir Janma Kalyanak: The birth day of Maha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shamavaani: The day of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yushan: The day of fa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00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var Man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sym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ring offerings to th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rthank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cused in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mples and Jain societies in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im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ivat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as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p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804000" y="836640"/>
            <a:ext cx="1362240" cy="19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1143000" y="454356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1838160" cy="1971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953400" y="5214960"/>
            <a:ext cx="21906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11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in Sanskr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written autobiography in Hin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ttvartha Su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ttvarthau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187280" y="1557360"/>
            <a:ext cx="6480360" cy="367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79280" y="90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979640" y="2781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527 B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788000" y="31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-3 Century 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596360" y="537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1628640"/>
            <a:ext cx="143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540 B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video.google.com/videosearch?q=videa&amp;sourceid=ie7&amp;rls=com.microsoft:en-US&amp;oe=utf8&amp;rlz=&amp;um=1&amp;ie=UTF-8&amp;sa=N&amp;hl=en&amp;tab=wv#q=jainism&amp;hl=en&amp;emb=0&amp;start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i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ins believe that the universe had no beginning and that it has no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 that every individual has a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 that every individual is responsible for their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 in non-violence in every form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97964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42920" y="-27000"/>
            <a:ext cx="92869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Breuilly, Elizabeth, comp. </a:t>
            </a:r>
            <a:r>
              <a:rPr b="0" i="1" lang="en-CA" sz="2400" spc="-1" strike="noStrike">
                <a:solidFill>
                  <a:srgbClr val="009999"/>
                </a:solidFill>
                <a:latin typeface="Arial"/>
              </a:rPr>
              <a:t>Religions of the world</a:t>
            </a: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. New york: Transedition, 1997.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"Jainism -." </a:t>
            </a:r>
            <a:r>
              <a:rPr b="0" i="1" lang="en-CA" sz="2400" spc="-1" strike="noStrike">
                <a:solidFill>
                  <a:srgbClr val="009999"/>
                </a:solidFill>
                <a:latin typeface="Arial"/>
              </a:rPr>
              <a:t>Wikipedia, the free encyclopedia</a:t>
            </a: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. Web. 08 Oct. 2009. &lt;http://en.wikipedia.org/wiki/Jainism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"JAINISM." </a:t>
            </a:r>
            <a:r>
              <a:rPr b="0" i="1" lang="en-CA" sz="2400" spc="-1" strike="noStrike">
                <a:solidFill>
                  <a:srgbClr val="009999"/>
                </a:solidFill>
                <a:latin typeface="Arial"/>
              </a:rPr>
              <a:t>ReligiousTolerance.org by the Ontario Consultants on Religious Tolerance</a:t>
            </a: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. Web. 08 Oct. 2009. &lt;http://www.religioustolerance.org/jainism.htm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ic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tp://religionencyclopedia.info/wp-content/uploads/2008/01/jainism-creation-and-cosmology-thumb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tp://www.indianetzone.com/2/images/jain-miniature_68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e9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in refers to a person who has conquered their inner turmoil. This includes inner hate, greed and selfish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e amount of peoples souls trapped in the materi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ma: The accumulation of spiritual wrongdo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deeds abolish ka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4762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verview continue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ins believe that every single person has a soul and that every individual has the ability to becom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ins believe in ka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 that once a person is rid of their karma they become hol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s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ks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imsa: The principle where there is no violence in any part of a person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ya: The principle where only the truth is sp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eya: The principle where you do not st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hma-charya: The principle where a person is loyal to their sp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igraha:The principle of being detached from material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inism there is no supreme de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 in rebirth and that based on your previous karma you will be reborn into a different layers to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Ab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r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4272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Contrib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thanak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habha D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inism was spread by Vardhamana Mahav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the son of Siddhart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6afe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havi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welve years of suffering he achieved kev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wards he started teaching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 Brahmins conve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9:23:14Z</dcterms:created>
  <dc:creator>Profile</dc:creator>
  <dc:description/>
  <dc:language>en-US</dc:language>
  <cp:lastModifiedBy>ripkensa</cp:lastModifiedBy>
  <dcterms:modified xsi:type="dcterms:W3CDTF">2009-10-18T18:23:13Z</dcterms:modified>
  <cp:revision>25</cp:revision>
  <dc:subject/>
  <dc:title>By: Devin Ouellette</dc:title>
</cp:coreProperties>
</file>